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type.wav" ContentType="audio/x-wav"/>
  <Override PartName="/ppt/media/image17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6-08-19T16:16:52.176000000" idx="1">
    <p:pos x="1479" y="629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BE86-23B7-46F8-8A2C-ABBF0782388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504B-8569-4F17-A4FA-EF4B2F8BA6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F0B1-0A63-4A04-A6FB-367E992CBF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四则混合运算（一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276720" y="3429000"/>
            <a:ext cx="47512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124080" y="263700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混合运算（一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2679840" y="2781360"/>
            <a:ext cx="29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+45×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46+1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81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1739880" y="2852640"/>
            <a:ext cx="57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展览馆举行画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午参观的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午参观的人数是下午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。这一天一共有多少人参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9"/>
          <p:cNvSpPr/>
          <p:nvPr/>
        </p:nvSpPr>
        <p:spPr>
          <a:xfrm>
            <a:off x="1128600" y="314172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求出上午参观的人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加上下午参观的人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是一天一共参观的人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7"/>
          <p:cNvSpPr/>
          <p:nvPr/>
        </p:nvSpPr>
        <p:spPr>
          <a:xfrm>
            <a:off x="2124000" y="2924280"/>
            <a:ext cx="56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7×3+87=348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一天一共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4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参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63" name="矩形 1"/>
          <p:cNvSpPr/>
          <p:nvPr/>
        </p:nvSpPr>
        <p:spPr>
          <a:xfrm rot="18297600">
            <a:off x="5376600" y="35463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84360" y="436572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9"/>
          <p:cNvSpPr/>
          <p:nvPr/>
        </p:nvSpPr>
        <p:spPr>
          <a:xfrm>
            <a:off x="2050920" y="177336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+36÷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2700360" y="2619360"/>
            <a:ext cx="25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5+36÷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81÷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765000"/>
            <a:ext cx="2471760" cy="1727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9"/>
          <p:cNvSpPr/>
          <p:nvPr/>
        </p:nvSpPr>
        <p:spPr>
          <a:xfrm>
            <a:off x="1503360" y="256536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没有按照混合运算的运算顺序进行运算。这是一个含有加法和除法的混合运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先算除法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算加法。在一个算式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既有乘除法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又有加减法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先算乘除法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算加减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80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5"/>
          <p:cNvSpPr/>
          <p:nvPr/>
        </p:nvSpPr>
        <p:spPr>
          <a:xfrm rot="18297600">
            <a:off x="5040360" y="46584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84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5" name="矩形 20"/>
          <p:cNvSpPr/>
          <p:nvPr/>
        </p:nvSpPr>
        <p:spPr>
          <a:xfrm rot="18297600">
            <a:off x="4873680" y="22492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2540160" y="1841400"/>
            <a:ext cx="25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5+36÷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81÷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"/>
          <p:cNvSpPr/>
          <p:nvPr/>
        </p:nvSpPr>
        <p:spPr>
          <a:xfrm>
            <a:off x="2532240" y="3892680"/>
            <a:ext cx="213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45+36÷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=45+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=4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90" name="同侧圆角矩形 31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684360" y="238752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的计算对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不对的改正过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-50×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÷6+1  20+24÷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50×2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=7+1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=44÷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00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=8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=11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50" descr="kt140"/>
          <p:cNvPicPr/>
          <p:nvPr/>
        </p:nvPicPr>
        <p:blipFill>
          <a:blip r:embed="rId2"/>
          <a:stretch/>
        </p:blipFill>
        <p:spPr>
          <a:xfrm>
            <a:off x="252360" y="4941720"/>
            <a:ext cx="1438200" cy="13622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5"/>
          <p:cNvSpPr/>
          <p:nvPr/>
        </p:nvSpPr>
        <p:spPr>
          <a:xfrm>
            <a:off x="1468440" y="4449600"/>
            <a:ext cx="30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-50×2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00-100        =0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5508720" y="4467240"/>
            <a:ext cx="272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+24÷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20+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26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2170080" y="3790800"/>
            <a:ext cx="8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492800" y="3821040"/>
            <a:ext cx="8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6300720" y="3933720"/>
            <a:ext cx="8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4"/>
          <p:cNvSpPr/>
          <p:nvPr/>
        </p:nvSpPr>
        <p:spPr>
          <a:xfrm>
            <a:off x="971640" y="1989000"/>
            <a:ext cx="712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把下面每组中的两个算式改写成一个算式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7×18=12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40-126=2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13×7=9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1+28=1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18×5=9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-25=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同侧圆角矩形 20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2050920" y="346536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40-7×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2411280" y="4437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3×7+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2411280" y="55278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×5-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同侧圆角矩形 37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"/>
          <p:cNvSpPr/>
          <p:nvPr/>
        </p:nvSpPr>
        <p:spPr>
          <a:xfrm>
            <a:off x="1116000" y="197640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实验小学三年级有男生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女生人数比男生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少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你知道实验小学三年级共有学生多少人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43"/>
          <p:cNvSpPr/>
          <p:nvPr/>
        </p:nvSpPr>
        <p:spPr>
          <a:xfrm>
            <a:off x="2987640" y="3789360"/>
            <a:ext cx="4176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7×3-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261-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258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7+258=34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实验小学三年级有学生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4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900000" y="416880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主动参与探索算理、算法的过程，感受数学与生活的联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900000" y="2924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两级混合运算的顺序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进行两级混合运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00000" y="1700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将分步计算改写成不带括号的两级混合运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1187280" y="1773360"/>
            <a:ext cx="67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红红和丫丫读同一本故事书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红红每天读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30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页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丫丫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天读了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75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页。谁每天读的书多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多多少页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5"/>
          <p:cNvSpPr/>
          <p:nvPr/>
        </p:nvSpPr>
        <p:spPr>
          <a:xfrm>
            <a:off x="3276720" y="3568680"/>
            <a:ext cx="29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75÷3=25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页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295800" y="4259160"/>
            <a:ext cx="29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-25=5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页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2500200" y="4869000"/>
            <a:ext cx="58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红红每天读的书多，多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页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187280" y="1747800"/>
            <a:ext cx="69850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双袜子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双运动鞋需要多少元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AF107.EPS" descr="id:2147507933;FounderCES"/>
          <p:cNvPicPr/>
          <p:nvPr/>
        </p:nvPicPr>
        <p:blipFill>
          <a:blip r:embed="rId1"/>
          <a:stretch/>
        </p:blipFill>
        <p:spPr>
          <a:xfrm>
            <a:off x="2771640" y="2584440"/>
            <a:ext cx="3888000" cy="1795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5"/>
          <p:cNvSpPr/>
          <p:nvPr/>
        </p:nvSpPr>
        <p:spPr>
          <a:xfrm>
            <a:off x="3295800" y="4844880"/>
            <a:ext cx="379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×8+75=99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：买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双袜子和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双运动鞋需要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99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27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9" name="AutoShape 27"/>
          <p:cNvSpPr/>
          <p:nvPr/>
        </p:nvSpPr>
        <p:spPr>
          <a:xfrm>
            <a:off x="5867280" y="1484280"/>
            <a:ext cx="2808360" cy="765360"/>
          </a:xfrm>
          <a:prstGeom prst="wedgeRoundRectCallout">
            <a:avLst>
              <a:gd name="adj1" fmla="val -72541"/>
              <a:gd name="adj2" fmla="val 8425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乘、除要先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31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矩形 15"/>
          <p:cNvSpPr/>
          <p:nvPr/>
        </p:nvSpPr>
        <p:spPr>
          <a:xfrm>
            <a:off x="860400" y="5013360"/>
            <a:ext cx="7848720" cy="520560"/>
          </a:xfrm>
          <a:prstGeom prst="rect">
            <a:avLst/>
          </a:prstGeom>
          <a:solidFill>
            <a:srgbClr val="558ed5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不管乘法、除法在算式前，还是后，都要先计算。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18"/>
          <p:cNvSpPr/>
          <p:nvPr/>
        </p:nvSpPr>
        <p:spPr>
          <a:xfrm>
            <a:off x="860400" y="3762360"/>
            <a:ext cx="7848720" cy="520560"/>
          </a:xfrm>
          <a:prstGeom prst="rect">
            <a:avLst/>
          </a:prstGeom>
          <a:solidFill>
            <a:srgbClr val="7030a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一个算式里，既有乘法、除法，又有加法、减法，要先算乘法、除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476360" y="2637000"/>
            <a:ext cx="2590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0÷8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403280" y="3500280"/>
            <a:ext cx="215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÷2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564000" y="2638440"/>
            <a:ext cx="187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÷9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564000" y="3500280"/>
            <a:ext cx="208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÷6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688000" y="2657520"/>
            <a:ext cx="161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÷4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726160" y="3500280"/>
            <a:ext cx="2085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÷4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949480" y="2637000"/>
            <a:ext cx="933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2932200" y="3500280"/>
            <a:ext cx="933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180040" y="2638440"/>
            <a:ext cx="93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925880" y="3500280"/>
            <a:ext cx="9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164360" y="2679840"/>
            <a:ext cx="10065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804000" y="350028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164360" y="35146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349280" y="1619280"/>
            <a:ext cx="40338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K32.EPS" descr="id:2147507715;FounderCES"/>
          <p:cNvPicPr/>
          <p:nvPr/>
        </p:nvPicPr>
        <p:blipFill>
          <a:blip r:embed="rId1"/>
          <a:stretch/>
        </p:blipFill>
        <p:spPr>
          <a:xfrm>
            <a:off x="900000" y="2565360"/>
            <a:ext cx="7174080" cy="2670120"/>
          </a:xfrm>
          <a:prstGeom prst="rect">
            <a:avLst/>
          </a:prstGeom>
          <a:ln w="0">
            <a:noFill/>
          </a:ln>
        </p:spPr>
      </p:pic>
      <p:sp>
        <p:nvSpPr>
          <p:cNvPr id="76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476360" y="1585800"/>
            <a:ext cx="34196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有多少瓶饮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1"/>
          <p:cNvGrpSpPr/>
          <p:nvPr/>
        </p:nvGrpSpPr>
        <p:grpSpPr>
          <a:xfrm>
            <a:off x="2879640" y="4665600"/>
            <a:ext cx="5697720" cy="1871640"/>
            <a:chOff x="2879640" y="4665600"/>
            <a:chExt cx="5697720" cy="1871640"/>
          </a:xfrm>
        </p:grpSpPr>
        <p:sp>
          <p:nvSpPr>
            <p:cNvPr id="80" name="AutoShape 27"/>
            <p:cNvSpPr/>
            <p:nvPr/>
          </p:nvSpPr>
          <p:spPr>
            <a:xfrm>
              <a:off x="2879640" y="5591160"/>
              <a:ext cx="3744360" cy="496440"/>
            </a:xfrm>
            <a:prstGeom prst="wedgeRoundRectCallout">
              <a:avLst>
                <a:gd name="adj1" fmla="val 66541"/>
                <a:gd name="adj2" fmla="val -604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了解了哪些数学信息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1" name="Picture 5" descr="女孩1"/>
            <p:cNvPicPr/>
            <p:nvPr/>
          </p:nvPicPr>
          <p:blipFill>
            <a:blip r:embed="rId2"/>
            <a:stretch/>
          </p:blipFill>
          <p:spPr>
            <a:xfrm>
              <a:off x="7066440" y="4665600"/>
              <a:ext cx="1510920" cy="18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84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同侧圆角矩形 2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同侧圆角矩形 28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2071080" y="2666880"/>
            <a:ext cx="32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4+24+24+12=84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瓶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5217120" y="175248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4×3=72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瓶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72+12=84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瓶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52"/>
          <p:cNvGrpSpPr/>
          <p:nvPr/>
        </p:nvGrpSpPr>
        <p:grpSpPr>
          <a:xfrm>
            <a:off x="428760" y="1755720"/>
            <a:ext cx="4031640" cy="2114280"/>
            <a:chOff x="428760" y="1755720"/>
            <a:chExt cx="4031640" cy="2114280"/>
          </a:xfrm>
        </p:grpSpPr>
        <p:sp>
          <p:nvSpPr>
            <p:cNvPr id="90" name="AutoShape 31"/>
            <p:cNvSpPr/>
            <p:nvPr/>
          </p:nvSpPr>
          <p:spPr>
            <a:xfrm>
              <a:off x="1660320" y="1755720"/>
              <a:ext cx="2800080" cy="575280"/>
            </a:xfrm>
            <a:prstGeom prst="wedgeRoundRectCallout">
              <a:avLst>
                <a:gd name="adj1" fmla="val -57944"/>
                <a:gd name="adj2" fmla="val 8601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是用连加计算的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Picture 51" descr="女孩  23"/>
            <p:cNvPicPr/>
            <p:nvPr/>
          </p:nvPicPr>
          <p:blipFill>
            <a:blip r:embed="rId1"/>
            <a:stretch/>
          </p:blipFill>
          <p:spPr>
            <a:xfrm>
              <a:off x="428760" y="2077920"/>
              <a:ext cx="1321920" cy="17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组合 13"/>
          <p:cNvGrpSpPr/>
          <p:nvPr/>
        </p:nvGrpSpPr>
        <p:grpSpPr>
          <a:xfrm>
            <a:off x="5473800" y="466560"/>
            <a:ext cx="3413160" cy="2257560"/>
            <a:chOff x="5473800" y="466560"/>
            <a:chExt cx="3413160" cy="2257560"/>
          </a:xfrm>
        </p:grpSpPr>
        <p:sp>
          <p:nvSpPr>
            <p:cNvPr id="93" name="AutoShape 32"/>
            <p:cNvSpPr/>
            <p:nvPr/>
          </p:nvSpPr>
          <p:spPr>
            <a:xfrm>
              <a:off x="5473800" y="928440"/>
              <a:ext cx="2161080" cy="496440"/>
            </a:xfrm>
            <a:prstGeom prst="wedgeRoundRectCallout">
              <a:avLst>
                <a:gd name="adj1" fmla="val 58592"/>
                <a:gd name="adj2" fmla="val 1941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我这样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Picture 51" descr="20"/>
            <p:cNvPicPr/>
            <p:nvPr/>
          </p:nvPicPr>
          <p:blipFill>
            <a:blip r:embed="rId2"/>
            <a:srcRect l="17493" t="0" r="17928" b="12227"/>
            <a:stretch/>
          </p:blipFill>
          <p:spPr>
            <a:xfrm>
              <a:off x="7490880" y="466560"/>
              <a:ext cx="1396080" cy="225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Group 54"/>
          <p:cNvGrpSpPr/>
          <p:nvPr/>
        </p:nvGrpSpPr>
        <p:grpSpPr>
          <a:xfrm>
            <a:off x="5600880" y="2666880"/>
            <a:ext cx="3286080" cy="1957320"/>
            <a:chOff x="5600880" y="2666880"/>
            <a:chExt cx="3286080" cy="1957320"/>
          </a:xfrm>
        </p:grpSpPr>
        <p:sp>
          <p:nvSpPr>
            <p:cNvPr id="96" name="AutoShape 34"/>
            <p:cNvSpPr/>
            <p:nvPr/>
          </p:nvSpPr>
          <p:spPr>
            <a:xfrm>
              <a:off x="5600880" y="2960640"/>
              <a:ext cx="1932120" cy="575280"/>
            </a:xfrm>
            <a:prstGeom prst="wedgeRoundRectCallout">
              <a:avLst>
                <a:gd name="adj1" fmla="val 59481"/>
                <a:gd name="adj2" fmla="val -12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用乘法计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Picture 42" descr="13"/>
            <p:cNvPicPr/>
            <p:nvPr/>
          </p:nvPicPr>
          <p:blipFill>
            <a:blip r:embed="rId3"/>
            <a:stretch/>
          </p:blipFill>
          <p:spPr>
            <a:xfrm>
              <a:off x="7601040" y="2666880"/>
              <a:ext cx="1285920" cy="19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Rectangle 19"/>
          <p:cNvSpPr/>
          <p:nvPr/>
        </p:nvSpPr>
        <p:spPr>
          <a:xfrm>
            <a:off x="5449680" y="3679920"/>
            <a:ext cx="16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24×3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+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=72+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=84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（瓶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45"/>
          <p:cNvGrpSpPr/>
          <p:nvPr/>
        </p:nvGrpSpPr>
        <p:grpSpPr>
          <a:xfrm>
            <a:off x="507960" y="3540240"/>
            <a:ext cx="4486320" cy="1731960"/>
            <a:chOff x="507960" y="3540240"/>
            <a:chExt cx="4486320" cy="1731960"/>
          </a:xfrm>
        </p:grpSpPr>
        <p:sp>
          <p:nvSpPr>
            <p:cNvPr id="100" name="AutoShape 38"/>
            <p:cNvSpPr/>
            <p:nvPr/>
          </p:nvSpPr>
          <p:spPr>
            <a:xfrm>
              <a:off x="2084400" y="3540240"/>
              <a:ext cx="2909880" cy="496440"/>
            </a:xfrm>
            <a:prstGeom prst="wedgeRoundRectCallout">
              <a:avLst>
                <a:gd name="adj1" fmla="val -64236"/>
                <a:gd name="adj2" fmla="val -61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0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能写成一个算式吗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1" name="Picture 52" descr="P-055"/>
            <p:cNvPicPr/>
            <p:nvPr/>
          </p:nvPicPr>
          <p:blipFill>
            <a:blip r:embed="rId4"/>
            <a:stretch/>
          </p:blipFill>
          <p:spPr>
            <a:xfrm>
              <a:off x="507960" y="3649680"/>
              <a:ext cx="1655640" cy="16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Group 52"/>
          <p:cNvGrpSpPr/>
          <p:nvPr/>
        </p:nvGrpSpPr>
        <p:grpSpPr>
          <a:xfrm>
            <a:off x="1422360" y="4405320"/>
            <a:ext cx="3452760" cy="2357280"/>
            <a:chOff x="1422360" y="4405320"/>
            <a:chExt cx="3452760" cy="2357280"/>
          </a:xfrm>
        </p:grpSpPr>
        <p:sp>
          <p:nvSpPr>
            <p:cNvPr id="103" name="AutoShape 31"/>
            <p:cNvSpPr/>
            <p:nvPr/>
          </p:nvSpPr>
          <p:spPr>
            <a:xfrm>
              <a:off x="2654280" y="4405320"/>
              <a:ext cx="2220840" cy="575280"/>
            </a:xfrm>
            <a:prstGeom prst="wedgeRoundRectCallout">
              <a:avLst>
                <a:gd name="adj1" fmla="val -58439"/>
                <a:gd name="adj2" fmla="val 1157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也可以这样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" name="Picture 51" descr="女孩  23"/>
            <p:cNvPicPr/>
            <p:nvPr/>
          </p:nvPicPr>
          <p:blipFill>
            <a:blip r:embed="rId5"/>
            <a:stretch/>
          </p:blipFill>
          <p:spPr>
            <a:xfrm>
              <a:off x="1422360" y="4970160"/>
              <a:ext cx="1322280" cy="179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19"/>
          <p:cNvSpPr/>
          <p:nvPr/>
        </p:nvSpPr>
        <p:spPr>
          <a:xfrm>
            <a:off x="3354120" y="5065560"/>
            <a:ext cx="16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+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24×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2+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84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瓶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147680" y="1569960"/>
            <a:ext cx="688032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买整箱的葡萄酒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均每瓶比零售价便宜多少元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1"/>
          <p:cNvGrpSpPr/>
          <p:nvPr/>
        </p:nvGrpSpPr>
        <p:grpSpPr>
          <a:xfrm>
            <a:off x="2860560" y="4900680"/>
            <a:ext cx="5456520" cy="1871640"/>
            <a:chOff x="2860560" y="4900680"/>
            <a:chExt cx="5456520" cy="1871640"/>
          </a:xfrm>
        </p:grpSpPr>
        <p:sp>
          <p:nvSpPr>
            <p:cNvPr id="110" name="AutoShape 27"/>
            <p:cNvSpPr/>
            <p:nvPr/>
          </p:nvSpPr>
          <p:spPr>
            <a:xfrm>
              <a:off x="2860560" y="5345640"/>
              <a:ext cx="3744720" cy="496440"/>
            </a:xfrm>
            <a:prstGeom prst="wedgeRoundRectCallout">
              <a:avLst>
                <a:gd name="adj1" fmla="val 54333"/>
                <a:gd name="adj2" fmla="val 27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了解了哪些数学信息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1" name="Picture 5" descr="女孩1"/>
            <p:cNvPicPr/>
            <p:nvPr/>
          </p:nvPicPr>
          <p:blipFill>
            <a:blip r:embed="rId1"/>
            <a:stretch/>
          </p:blipFill>
          <p:spPr>
            <a:xfrm>
              <a:off x="6805800" y="4900680"/>
              <a:ext cx="1511280" cy="187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ck33.jpg" descr="id:2147507736;FounderCES"/>
          <p:cNvPicPr/>
          <p:nvPr/>
        </p:nvPicPr>
        <p:blipFill>
          <a:blip r:embed="rId2"/>
          <a:stretch/>
        </p:blipFill>
        <p:spPr>
          <a:xfrm>
            <a:off x="2562120" y="2637000"/>
            <a:ext cx="37404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14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同侧圆角矩形 2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同侧圆角矩形 28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037240" y="3514680"/>
            <a:ext cx="252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80÷6=8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6-80=6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5275440" y="3070080"/>
            <a:ext cx="18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6-480÷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86-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6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52"/>
          <p:cNvGrpSpPr/>
          <p:nvPr/>
        </p:nvGrpSpPr>
        <p:grpSpPr>
          <a:xfrm>
            <a:off x="523800" y="2035080"/>
            <a:ext cx="4032360" cy="2114280"/>
            <a:chOff x="523800" y="2035080"/>
            <a:chExt cx="4032360" cy="2114280"/>
          </a:xfrm>
        </p:grpSpPr>
        <p:sp>
          <p:nvSpPr>
            <p:cNvPr id="120" name="AutoShape 31"/>
            <p:cNvSpPr/>
            <p:nvPr/>
          </p:nvSpPr>
          <p:spPr>
            <a:xfrm>
              <a:off x="1755720" y="2035080"/>
              <a:ext cx="2800440" cy="575280"/>
            </a:xfrm>
            <a:prstGeom prst="wedgeRoundRectCallout">
              <a:avLst>
                <a:gd name="adj1" fmla="val -57939"/>
                <a:gd name="adj2" fmla="val 19871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算整箱里的每瓶多少钱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Picture 51" descr="女孩  23"/>
            <p:cNvPicPr/>
            <p:nvPr/>
          </p:nvPicPr>
          <p:blipFill>
            <a:blip r:embed="rId1"/>
            <a:stretch/>
          </p:blipFill>
          <p:spPr>
            <a:xfrm>
              <a:off x="523800" y="2357280"/>
              <a:ext cx="1322280" cy="17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合 13"/>
          <p:cNvGrpSpPr/>
          <p:nvPr/>
        </p:nvGrpSpPr>
        <p:grpSpPr>
          <a:xfrm>
            <a:off x="5019840" y="1228680"/>
            <a:ext cx="3811320" cy="2257560"/>
            <a:chOff x="5019840" y="1228680"/>
            <a:chExt cx="3811320" cy="2257560"/>
          </a:xfrm>
        </p:grpSpPr>
        <p:sp>
          <p:nvSpPr>
            <p:cNvPr id="123" name="AutoShape 32"/>
            <p:cNvSpPr/>
            <p:nvPr/>
          </p:nvSpPr>
          <p:spPr>
            <a:xfrm>
              <a:off x="5019840" y="1493640"/>
              <a:ext cx="2415960" cy="496440"/>
            </a:xfrm>
            <a:prstGeom prst="wedgeRoundRectCallout">
              <a:avLst>
                <a:gd name="adj1" fmla="val 58592"/>
                <a:gd name="adj2" fmla="val 75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可以写成一个算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4" name="Picture 51" descr="20"/>
            <p:cNvPicPr/>
            <p:nvPr/>
          </p:nvPicPr>
          <p:blipFill>
            <a:blip r:embed="rId2"/>
            <a:srcRect l="17493" t="0" r="17928" b="12227"/>
            <a:stretch/>
          </p:blipFill>
          <p:spPr>
            <a:xfrm>
              <a:off x="7435800" y="1228680"/>
              <a:ext cx="1395360" cy="225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TextBox 19"/>
          <p:cNvSpPr/>
          <p:nvPr/>
        </p:nvSpPr>
        <p:spPr>
          <a:xfrm>
            <a:off x="1184400" y="5013360"/>
            <a:ext cx="6873840" cy="581400"/>
          </a:xfrm>
          <a:prstGeom prst="rect">
            <a:avLst/>
          </a:prstGeom>
          <a:solidFill>
            <a:srgbClr val="4f81bd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个算式里，既有乘法、除法，又有加法、减法，要先算乘法、除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7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1503360" y="267012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校三年级四个班去春游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班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余每班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有多少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7"/>
          <p:cNvSpPr/>
          <p:nvPr/>
        </p:nvSpPr>
        <p:spPr>
          <a:xfrm>
            <a:off x="1476360" y="2637000"/>
            <a:ext cx="61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班的人数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余每班的人数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是说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班每班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求一共有多少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需要先求出其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班的人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加上一班的人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8:17:01Z</dcterms:modified>
  <cp:revision>368</cp:revision>
  <dc:subject>www.xkb1.com</dc:subject>
  <dc:title>www.xkb1.com</dc:title>
</cp:coreProperties>
</file>